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520-CF51-4E7E-ACF6-25980ECC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0F0-E802-4B4A-B446-2AF1054A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FD47-871C-4B5C-9C2A-9A7AA7FD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E66-4729-4329-888E-00E1180D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51A8-D825-45B3-85AD-D84FB10B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6014-B0DA-4C00-BD72-EBA7E7A2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CC77-AECD-46D3-9F91-D070FC0A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9740-5576-42E8-AC2D-9546F60D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7D23-E39F-4BA5-95ED-BC01884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C0FF-05A6-42EF-B3AE-7E0A139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90BE-5DA0-4BB7-927F-4F7D550C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04E-1DEE-4E6C-860A-37037ED8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A9A9-1A8C-4068-9428-9C6B7AB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4A9-60F8-472C-83EF-AD7C2B5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73F5-6590-4709-8DBC-D63A09D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855E-1ABF-49B6-90A6-800DE611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7342-F36E-4CA3-B13C-F4C47E71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A3A8-2FA3-4445-AFBC-18B9E058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E293-19BF-47FD-A193-7D285C4D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0142-081C-4154-8DFE-2EB8CD1D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75F-1B49-4F52-92C8-0E3970CA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686-AC52-4364-B092-762DBCD3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46F-308F-4E2D-A60A-42A97EE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E018-B13E-469F-9C7A-42B8D372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2760"/>
                  <a:ext cx="1063800" cy="1141200"/>
                  <a:chOff x="783396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2920"/>
                    <a:ext cx="8856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24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840"/>
                    <a:ext cx="4251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880" cy="327240"/>
                  <a:chOff x="784584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46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120" y="456120"/>
                    <a:ext cx="338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6120"/>
                  <a:ext cx="1060920" cy="1141560"/>
                  <a:chOff x="6539400" y="906120"/>
                  <a:chExt cx="106092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840"/>
                    <a:ext cx="8798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360"/>
                    <a:ext cx="4716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600"/>
                  <a:ext cx="915480" cy="1248480"/>
                  <a:chOff x="6710760" y="930600"/>
                  <a:chExt cx="91548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040" y="1259640"/>
                    <a:ext cx="8928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120" cy="1248120"/>
                  <a:chOff x="7014960" y="979560"/>
                  <a:chExt cx="61812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840"/>
                    <a:ext cx="82656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480"/>
                    <a:ext cx="4381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600" cy="1217160"/>
                  <a:chOff x="7312320" y="1001160"/>
                  <a:chExt cx="36360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37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1480" y="1877760"/>
                    <a:ext cx="42228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520" y="1352160"/>
                    <a:ext cx="8229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520" y="1404360"/>
                    <a:ext cx="7437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920" y="1927440"/>
                    <a:ext cx="39816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69DA-6F1A-4197-87DE-505F45B4C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7600"/>
              <a:ext cx="945720" cy="709920"/>
              <a:chOff x="3484080" y="95760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760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93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0200"/>
                    <a:ext cx="2560320" cy="2741760"/>
                    <a:chOff x="5760000" y="2320200"/>
                    <a:chExt cx="2560320" cy="27417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8240"/>
                      <a:ext cx="2129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400" y="4141800"/>
                      <a:ext cx="114048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3800"/>
                    <a:ext cx="3040200" cy="2531160"/>
                    <a:chOff x="5787360" y="2143800"/>
                    <a:chExt cx="3040200" cy="25311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6320"/>
                    <a:ext cx="3134160" cy="1609200"/>
                    <a:chOff x="5767920" y="1966320"/>
                    <a:chExt cx="3134160" cy="160920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556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6984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1760"/>
                    <a:ext cx="2363760" cy="784080"/>
                    <a:chOff x="5788440" y="130176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0320"/>
                      <a:ext cx="81648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120"/>
                    <a:ext cx="2556000" cy="2738520"/>
                    <a:chOff x="2646000" y="2472120"/>
                    <a:chExt cx="2556000" cy="27385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8720"/>
                      <a:ext cx="212472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1920"/>
                      <a:ext cx="113976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5200"/>
                    <a:ext cx="3038400" cy="2531880"/>
                    <a:chOff x="2084760" y="2365200"/>
                    <a:chExt cx="303840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840"/>
                      <a:ext cx="223416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020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9920"/>
                    <a:chOff x="2010960" y="2183760"/>
                    <a:chExt cx="3134520" cy="16099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8280" y="1234440"/>
                    <a:ext cx="2322720" cy="1081800"/>
                    <a:chOff x="2888280" y="1234440"/>
                    <a:chExt cx="232272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16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8360"/>
                      <a:ext cx="81612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7280"/>
                    <a:ext cx="2170800" cy="1506240"/>
                    <a:chOff x="3160440" y="827280"/>
                    <a:chExt cx="2170800" cy="15062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5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80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160"/>
                    <a:chOff x="3437280" y="434160"/>
                    <a:chExt cx="198756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580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9480" y="322200"/>
                    <a:ext cx="1460880" cy="1898640"/>
                    <a:chOff x="4029480" y="322200"/>
                    <a:chExt cx="1460880" cy="1898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488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520"/>
                    <a:ext cx="2319120" cy="1112400"/>
                    <a:chOff x="5661720" y="947520"/>
                    <a:chExt cx="231912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84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760"/>
                      <a:ext cx="817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9680" y="268200"/>
                    <a:ext cx="1190520" cy="1895040"/>
                    <a:chOff x="5359680" y="268200"/>
                    <a:chExt cx="1190520" cy="18950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120" y="1410840"/>
                      <a:ext cx="130860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920"/>
                      <a:ext cx="7045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79080"/>
                    <a:ext cx="1890720" cy="1798200"/>
                    <a:chOff x="5349960" y="379080"/>
                    <a:chExt cx="1890720" cy="17982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520" y="137916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4920"/>
                    <a:ext cx="1481400" cy="3004920"/>
                    <a:chOff x="3790800" y="2644920"/>
                    <a:chExt cx="1481400" cy="30049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65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6480" y="2692800"/>
                    <a:ext cx="874800" cy="2934360"/>
                    <a:chOff x="4506480" y="2692800"/>
                    <a:chExt cx="874800" cy="29343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0600" y="3481200"/>
                      <a:ext cx="189288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4640" y="480492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89840"/>
                    <a:ext cx="1757160" cy="3032640"/>
                    <a:chOff x="5646600" y="2589840"/>
                    <a:chExt cx="175716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200" y="3393000"/>
                      <a:ext cx="203652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52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7360"/>
                <a:chOff x="2174400" y="676800"/>
                <a:chExt cx="6732720" cy="45273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7360"/>
                  <a:chOff x="2174400" y="676800"/>
                  <a:chExt cx="6732720" cy="45273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49600"/>
                    <a:ext cx="3166560" cy="2529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000"/>
                    <a:ext cx="248688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080"/>
                    <a:ext cx="1758240" cy="2939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56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3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40160"/>
              <a:ext cx="6411960" cy="4712040"/>
              <a:chOff x="2343960" y="74016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6412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0856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5064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6688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7908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6540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76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757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1352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2632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3704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3840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4016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8304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235F-3074-495A-A1CE-6A14FA687AD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Immigration and Citizenship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6e81"/>
                </a:solidFill>
                <a:latin typeface="Arial Black"/>
              </a:rPr>
              <a:t>4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- During this time, immigrants must study English, American History, and Civics. A basic knowledge of each must be demonstra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ization Step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6e81"/>
                </a:solidFill>
                <a:latin typeface="Arial Black"/>
              </a:rPr>
              <a:t>5.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 application for naturalization must be filed with the USCIS. A fee of $675.00 must accompany the applic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6e81"/>
                </a:solidFill>
                <a:latin typeface="Arial Black"/>
              </a:rPr>
              <a:t>6.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f approved, the immigrant meets with an immigration examiner. If the examiner is satisfied with the immigrant’s responses to a series of questions, then the immigrant is ready to be a citize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6e81"/>
                </a:solidFill>
                <a:latin typeface="Arial Black"/>
              </a:rPr>
              <a:t>7.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immigrant takes a loyalty oath to the United States. After taking the oath, the individual is officially declared a US citiz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3525840" y="4114800"/>
            <a:ext cx="2048040" cy="22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deo Cli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e will watch the following video clip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. Becoming a U.S. Citizen: An Overview of the Naturalization Proc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. The USCIS Naturalization Interview an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. New citizens taking the Oath of Allegiance in Arizona and New York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ww.uscis.gov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www.abc15.com/dpp/news/region_phoenix_metro/central_phoenix/nearly-200-take-the-oath-and-become-americ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abclocal.go.com/wabc/story?section=news/local&amp;id=753369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tizen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citizen is a member of a community who owes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loyalty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o the government and is entitled to </a:t>
            </a: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protection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rom 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04840" cy="29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individuals become citizen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 individual becomes a citizen of the United States by birth or by the process of naturaliza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tizenship by Birth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re are two ways to become a citizen of the United States by birth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being born within the geographic borders of the United States or any of its territories. (jus soli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being born to parents that are citizens of the United States or if one parent is a citizen who has lived in the United States. (jus sanguin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itizens may hold dual citizenship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migrants and Non-Citiz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immigrant is a person who comes to a country with the intention of living there permanentl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" dur="250" autoRev="1" fill="remove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al and Illegal Immigra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legal immigran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s someone who has come to the country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with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</a:t>
            </a:r>
            <a:r>
              <a:rPr b="0" lang="en-US" sz="3200" spc="-1" strike="noStrike">
                <a:solidFill>
                  <a:srgbClr val="92d050"/>
                </a:solidFill>
                <a:latin typeface="Arial Black"/>
              </a:rPr>
              <a:t>permissi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the government, while an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illegal immigran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s come to the country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withou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e government’s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permissi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i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 alien is an individual who lives in a country but is not a citizen of that country. (To be classified as a legal/illegal alien it is the same criteria as for legal and illegal immigrants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3338640" y="487692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itizenship by Naturaliz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process by which a person that is not a citizen by birth becomes a citize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-7632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aturalization  (7) Ste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ENTER THE COUNTRY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LEGAL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le a Declaration of Intention with the U.S. Citizenship and Immigration Services (USCI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mmigrants must spend a certain amount of time living in the United States (Most 5 years; 3 years if married to a citizen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4:54:31Z</dcterms:created>
  <dc:creator>Owner</dc:creator>
  <dc:description/>
  <dc:language>en-US</dc:language>
  <cp:lastModifiedBy>SysAdmin</cp:lastModifiedBy>
  <dcterms:modified xsi:type="dcterms:W3CDTF">2011-08-25T17:28:44Z</dcterms:modified>
  <cp:revision>36</cp:revision>
  <dc:subject/>
  <dc:title>Slide 1</dc:title>
</cp:coreProperties>
</file>